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03AC-851B-4F1E-BA38-9439E75F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57B4-5098-4C25-8F08-0A129E5D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1270-137A-450C-BB50-C60052CD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28EC-3DC7-4B4F-8D22-2517BB262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141D-CF60-4AFD-BEE8-73C2818F6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2E86-4BFB-4C68-ADCB-80DEF5E1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78AB-AD9C-4FE2-9AF4-8357BFA7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02EA-DED6-4056-8DCD-E3B89043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5C83-A98C-4DA9-A37C-410CC62F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3B75-EE60-4920-912E-B780E5A1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3324-06FD-46BF-AD50-3276FE48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557C-36B8-41E6-94B9-8747DE01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A36E-E806-4147-A13A-92CC872B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3B50-C58D-407F-91A3-EA899126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7FC2-CFD5-4006-AEAF-CBB51931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FAB9-D720-4DBE-8F6C-BF9C1F59E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05E5-3935-4364-8735-0EB90B03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65E7-8654-448C-B3CC-495BB7D9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E384-A254-4821-AEBA-EFFCD666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54D4-F3B4-4369-B834-FBE3BEF4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836D-D361-4DCD-93FB-C4C1F8C5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DC39-B134-4A19-910F-4C97D235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10B8-B8FC-44E0-B33D-B9E9FB22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D243-94CB-4F46-B6B8-CAEA9051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7CB0-370F-442A-9579-1149DE5993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F526-476B-4E5F-B7A9-330178EBB35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Картинка 4 из 14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1187280" y="836640"/>
            <a:ext cx="720108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урок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9" name="Picture 5" descr="AG00315_"/>
          <p:cNvPicPr/>
          <p:nvPr/>
        </p:nvPicPr>
        <p:blipFill>
          <a:blip r:embed="rId1"/>
          <a:stretch/>
        </p:blipFill>
        <p:spPr>
          <a:xfrm>
            <a:off x="3348000" y="4941720"/>
            <a:ext cx="165564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1" descr="Картинка 70 из 120956"/>
          <p:cNvPicPr/>
          <p:nvPr/>
        </p:nvPicPr>
        <p:blipFill>
          <a:blip r:embed="rId1"/>
          <a:stretch/>
        </p:blipFill>
        <p:spPr>
          <a:xfrm>
            <a:off x="324000" y="3571920"/>
            <a:ext cx="3960720" cy="2976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0" name="Text Box 12"/>
          <p:cNvSpPr/>
          <p:nvPr/>
        </p:nvSpPr>
        <p:spPr>
          <a:xfrm>
            <a:off x="5223960" y="260280"/>
            <a:ext cx="24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са Росс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14" descr="Картинка 10 из 136000"/>
          <p:cNvPicPr/>
          <p:nvPr/>
        </p:nvPicPr>
        <p:blipFill>
          <a:blip r:embed="rId2"/>
          <a:stretch/>
        </p:blipFill>
        <p:spPr>
          <a:xfrm>
            <a:off x="4643280" y="836640"/>
            <a:ext cx="4248360" cy="2770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2" name="Picture 16" descr="Картинка 19 из 136000"/>
          <p:cNvPicPr/>
          <p:nvPr/>
        </p:nvPicPr>
        <p:blipFill>
          <a:blip r:embed="rId3"/>
          <a:stretch/>
        </p:blipFill>
        <p:spPr>
          <a:xfrm>
            <a:off x="179280" y="260280"/>
            <a:ext cx="4105440" cy="3079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3" name="Picture 18" descr="Картинка 11 из 136000"/>
          <p:cNvPicPr/>
          <p:nvPr/>
        </p:nvPicPr>
        <p:blipFill>
          <a:blip r:embed="rId4"/>
          <a:stretch/>
        </p:blipFill>
        <p:spPr>
          <a:xfrm>
            <a:off x="4788000" y="3860640"/>
            <a:ext cx="3792600" cy="2845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5"/>
          <p:cNvSpPr txBox="1"/>
          <p:nvPr/>
        </p:nvSpPr>
        <p:spPr>
          <a:xfrm rot="21049800">
            <a:off x="899640" y="1341360"/>
            <a:ext cx="7632720" cy="367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649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изн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649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649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ес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649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Picture 10" descr="Картинка 177 из 136000"/>
          <p:cNvPicPr/>
          <p:nvPr/>
        </p:nvPicPr>
        <p:blipFill>
          <a:blip r:embed="rId1"/>
          <a:stretch/>
        </p:blipFill>
        <p:spPr>
          <a:xfrm>
            <a:off x="395280" y="216000"/>
            <a:ext cx="2763720" cy="207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395280" y="1446840"/>
            <a:ext cx="8499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Что такое природное сообществ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Какие организмы составляют природное сообщество ле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Как связаны между собой организмы в природном сообществе ле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Роль сообщест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Экологические пробл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8" descr="Картинка 211 из 136000"/>
          <p:cNvPicPr/>
          <p:nvPr/>
        </p:nvPicPr>
        <p:blipFill>
          <a:blip r:embed="rId1"/>
          <a:stretch/>
        </p:blipFill>
        <p:spPr>
          <a:xfrm>
            <a:off x="324000" y="189000"/>
            <a:ext cx="2016000" cy="1582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468360" y="404640"/>
            <a:ext cx="83516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db00"/>
                </a:solidFill>
                <a:latin typeface="Times New Roman"/>
                <a:ea typeface="Times New Roman"/>
              </a:rPr>
              <a:t>СООБЩЕСТВ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bdb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db00"/>
                </a:solidFill>
                <a:latin typeface="Times New Roman"/>
                <a:ea typeface="Times New Roman"/>
              </a:rPr>
              <a:t>Объединение людей, народов, государств, имеющих общие интересы, цели. Международное. Мировое (страны всего мир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bdb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db00"/>
                </a:solidFill>
                <a:latin typeface="Times New Roman"/>
                <a:ea typeface="Times New Roman"/>
              </a:rPr>
              <a:t>Группа растительных или животных организмов, живущих вмест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1908000" y="836640"/>
            <a:ext cx="42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771640" y="836640"/>
            <a:ext cx="3673440" cy="703440"/>
          </a:xfrm>
          <a:prstGeom prst="rect">
            <a:avLst/>
          </a:prstGeom>
          <a:solidFill>
            <a:srgbClr val="ffff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Arial"/>
              </a:rPr>
              <a:t>ЛЕ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563840" y="2205000"/>
            <a:ext cx="5970240" cy="581400"/>
          </a:xfrm>
          <a:prstGeom prst="rect">
            <a:avLst/>
          </a:prstGeom>
          <a:solidFill>
            <a:srgbClr val="ffff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ИРОДНОЕ СООБЩ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708480" y="3860640"/>
            <a:ext cx="2146680" cy="520560"/>
          </a:xfrm>
          <a:prstGeom prst="rect">
            <a:avLst/>
          </a:prstGeom>
          <a:solidFill>
            <a:srgbClr val="ffff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РАСТ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6179400" y="3860640"/>
            <a:ext cx="2344680" cy="520560"/>
          </a:xfrm>
          <a:prstGeom prst="rect">
            <a:avLst/>
          </a:prstGeom>
          <a:solidFill>
            <a:srgbClr val="ffff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Arial"/>
              </a:rPr>
              <a:t>ЖИВОТ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2340000" y="5084640"/>
            <a:ext cx="1582560" cy="520560"/>
          </a:xfrm>
          <a:prstGeom prst="rect">
            <a:avLst/>
          </a:prstGeom>
          <a:solidFill>
            <a:srgbClr val="ffff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ГРИБ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4729320" y="5084640"/>
            <a:ext cx="2204640" cy="520560"/>
          </a:xfrm>
          <a:prstGeom prst="rect">
            <a:avLst/>
          </a:prstGeom>
          <a:solidFill>
            <a:srgbClr val="ffff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БАКТЕР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 flipH="1">
            <a:off x="1331640" y="2852640"/>
            <a:ext cx="2087640" cy="936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2"/>
          <p:cNvSpPr/>
          <p:nvPr/>
        </p:nvSpPr>
        <p:spPr>
          <a:xfrm>
            <a:off x="5724360" y="2852640"/>
            <a:ext cx="1943280" cy="936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 flipH="1">
            <a:off x="2987280" y="2852640"/>
            <a:ext cx="934920" cy="216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4"/>
          <p:cNvSpPr/>
          <p:nvPr/>
        </p:nvSpPr>
        <p:spPr>
          <a:xfrm>
            <a:off x="4788000" y="2852640"/>
            <a:ext cx="1150920" cy="216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s://ds03.infourok.ru/uploads/ex/029a/000050b9-50c128c2/im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826920" y="2274840"/>
            <a:ext cx="7705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итать стр.164-165, отвечать на вопросы стр. 16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готовить сообщение (по выбору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Насекомые просят защи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стения просят о помощ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тицы,  прилетайт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2" descr="Картинка 177 из 24837"/>
          <p:cNvPicPr/>
          <p:nvPr/>
        </p:nvPicPr>
        <p:blipFill>
          <a:blip r:embed="rId1"/>
          <a:stretch/>
        </p:blipFill>
        <p:spPr>
          <a:xfrm>
            <a:off x="3995640" y="4365720"/>
            <a:ext cx="2486160" cy="20350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468360" y="332280"/>
            <a:ext cx="8856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бите родную природу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зёра, леса и пол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едь это же наша с тобо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веки родная Зем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ней мы с тобою родилис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Живём мы с тобою на н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ак будем же, люди, все вмес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ы к ней относиться добрей</a:t>
            </a: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" descr="Картинка 39 из 24835"/>
          <p:cNvPicPr/>
          <p:nvPr/>
        </p:nvPicPr>
        <p:blipFill>
          <a:blip r:embed="rId2"/>
          <a:stretch/>
        </p:blipFill>
        <p:spPr>
          <a:xfrm>
            <a:off x="179280" y="4292640"/>
            <a:ext cx="2411640" cy="2087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Картинка 75 из 24837"/>
          <p:cNvPicPr/>
          <p:nvPr/>
        </p:nvPicPr>
        <p:blipFill>
          <a:blip r:embed="rId3"/>
          <a:stretch/>
        </p:blipFill>
        <p:spPr>
          <a:xfrm>
            <a:off x="2411280" y="4797360"/>
            <a:ext cx="1733760" cy="1871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Картинка 153 из 24837"/>
          <p:cNvPicPr/>
          <p:nvPr/>
        </p:nvPicPr>
        <p:blipFill>
          <a:blip r:embed="rId4"/>
          <a:stretch/>
        </p:blipFill>
        <p:spPr>
          <a:xfrm>
            <a:off x="179280" y="333360"/>
            <a:ext cx="1974960" cy="3457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Картинка 329 из 24836"/>
          <p:cNvPicPr/>
          <p:nvPr/>
        </p:nvPicPr>
        <p:blipFill>
          <a:blip r:embed="rId5"/>
          <a:stretch/>
        </p:blipFill>
        <p:spPr>
          <a:xfrm>
            <a:off x="6372360" y="4797360"/>
            <a:ext cx="22320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0:37:58Z</dcterms:created>
  <dc:creator>мама</dc:creator>
  <dc:description/>
  <dc:language>en-US</dc:language>
  <cp:lastModifiedBy>Учитель</cp:lastModifiedBy>
  <dcterms:modified xsi:type="dcterms:W3CDTF">2023-11-06T14:56:35Z</dcterms:modified>
  <cp:revision>16</cp:revision>
  <dc:subject/>
  <dc:title>Слайд 1</dc:title>
</cp:coreProperties>
</file>